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ED0-2FEF-440B-BA52-3D0100D9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155-B80E-41E2-BBFC-7786162E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934-1B56-4973-B0D2-1C62D81D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B67-308E-4E43-8EE8-669AE5175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340-AE2E-451E-B8B7-4D56019E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3AE-3F6A-4E09-8D66-7F99B295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171-75C1-4F9A-BCC9-EFE9B240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2D8-6A7A-43D3-A03F-AB6D3B7F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A1C-D925-4849-B10D-14A614EC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6BD-8797-4CED-AE26-327C56CA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C62-3066-4D66-A844-4C6E5961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D11-FAC5-422E-98B9-2AA43B67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5024-9C22-4694-9726-6D6BD5D80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ece plum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://clio.missouristate.edu/chuchiak/New%20Webpage%20Images/10056152aAthensAgora.jpg"/>
          <p:cNvPicPr/>
          <p:nvPr/>
        </p:nvPicPr>
        <p:blipFill>
          <a:blip r:embed="rId1"/>
          <a:stretch/>
        </p:blipFill>
        <p:spPr>
          <a:xfrm>
            <a:off x="2438280" y="2743200"/>
            <a:ext cx="4257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 of wisdom and he right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http://t1.gstatic.com/images?q=tbn:ANd9GcTdGDG3ctNv2TLXnqmmO1hG-FUjvJykfKsU537wKRGh7qjRxqaMjA"/>
          <p:cNvPicPr/>
          <p:nvPr/>
        </p:nvPicPr>
        <p:blipFill>
          <a:blip r:embed="rId1"/>
          <a:stretch/>
        </p:blipFill>
        <p:spPr>
          <a:xfrm>
            <a:off x="3276720" y="3124080"/>
            <a:ext cx="1866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http://t3.gstatic.com/images?q=tbn:ANd9GcTL0Bwvv86KXALrRdTCKL27b6CFKBfBlPyiiYC5jkPVbExAIsrE"/>
          <p:cNvPicPr/>
          <p:nvPr/>
        </p:nvPicPr>
        <p:blipFill>
          <a:blip r:embed="rId1"/>
          <a:stretch/>
        </p:blipFill>
        <p:spPr>
          <a:xfrm>
            <a:off x="335268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Sparta and Athe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http://t2.gstatic.com/images?q=tbn:ANd9GcQQKhY5D_h5cdMqIBFQEChKiLWl604eWmQaK-eLN6NoXiQ8-D3R"/>
          <p:cNvPicPr/>
          <p:nvPr/>
        </p:nvPicPr>
        <p:blipFill>
          <a:blip r:embed="rId1"/>
          <a:stretch/>
        </p:blipFill>
        <p:spPr>
          <a:xfrm>
            <a:off x="2895480" y="3352680"/>
            <a:ext cx="3009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 government that is ra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http://westerlund10.wikis.birmingham.k12.mi.us/file/view/oligarchy.gif/210870380/oligarchy.gif"/>
          <p:cNvPicPr/>
          <p:nvPr/>
        </p:nvPicPr>
        <p:blipFill>
          <a:blip r:embed="rId1"/>
          <a:stretch/>
        </p:blipFill>
        <p:spPr>
          <a:xfrm>
            <a:off x="1828800" y="2666880"/>
            <a:ext cx="5629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or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http://t1.gstatic.com/images?q=tbn:ANd9GcRhSbQOyLwCVOsVMEWhsvGr_8Q_ILzpI4IpcQzalLHkKuye1gnc"/>
          <p:cNvPicPr/>
          <p:nvPr/>
        </p:nvPicPr>
        <p:blipFill>
          <a:blip r:embed="rId1"/>
          <a:stretch/>
        </p:blipFill>
        <p:spPr>
          <a:xfrm>
            <a:off x="3048120" y="3581280"/>
            <a:ext cx="2676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http://static.ddmcdn.com/gif/parthenon-and-the-acropolis-landmark-1.jpg"/>
          <p:cNvPicPr/>
          <p:nvPr/>
        </p:nvPicPr>
        <p:blipFill>
          <a:blip r:embed="rId1"/>
          <a:stretch/>
        </p:blipFill>
        <p:spPr>
          <a:xfrm>
            <a:off x="2666880" y="2666880"/>
            <a:ext cx="38102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t0.gstatic.com/images?q=tbn:ANd9GcQkKIPX_D3IZFd0TMJePcqZZPMyRy78aoBvtU2LPopRwcN32LXQ5w"/>
          <p:cNvPicPr/>
          <p:nvPr/>
        </p:nvPicPr>
        <p:blipFill>
          <a:blip r:embed="rId1"/>
          <a:stretch/>
        </p:blipFill>
        <p:spPr>
          <a:xfrm>
            <a:off x="3048120" y="31240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http://novaroma.org/vici/images/Greekcityscene.jpg"/>
          <p:cNvPicPr/>
          <p:nvPr/>
        </p:nvPicPr>
        <p:blipFill>
          <a:blip r:embed="rId1"/>
          <a:stretch/>
        </p:blipFill>
        <p:spPr>
          <a:xfrm>
            <a:off x="2666880" y="2895480"/>
            <a:ext cx="38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a certain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t3.gstatic.com/images?q=tbn:ANd9GcQol48pt3NP0FV2hm5fx5RTIa7gQOJvJvDhSSQhppXEFAcgBVt7"/>
          <p:cNvPicPr/>
          <p:nvPr/>
        </p:nvPicPr>
        <p:blipFill>
          <a:blip r:embed="rId1"/>
          <a:stretch/>
        </p:blipFill>
        <p:spPr>
          <a:xfrm>
            <a:off x="3809880" y="3124080"/>
            <a:ext cx="158112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that came to settle from a different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http://t1.gstatic.com/images?q=tbn:ANd9GcRAUAdRrSfXSAEchPPIDUVaqovKW_RBC_QPfaP3NPUatFi2Nu5scg"/>
          <p:cNvPicPr/>
          <p:nvPr/>
        </p:nvPicPr>
        <p:blipFill>
          <a:blip r:embed="rId1"/>
          <a:stretch/>
        </p:blipFill>
        <p:spPr>
          <a:xfrm>
            <a:off x="2209680" y="3200400"/>
            <a:ext cx="48484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. that the people dec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http://t1.gstatic.com/images?q=tbn:ANd9GcRLNKbz_Eo6UnUh7H9iFScxwxtkfyYLdRhZzT9bjYoqj0KdkpEh"/>
          <p:cNvPicPr/>
          <p:nvPr/>
        </p:nvPicPr>
        <p:blipFill>
          <a:blip r:embed="rId1"/>
          <a:stretch/>
        </p:blipFill>
        <p:spPr>
          <a:xfrm>
            <a:off x="3429000" y="3352680"/>
            <a:ext cx="23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and decide whose  guil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http://www.usu.edu/markdamen/ClasDram/images/01/theatron.jpg"/>
          <p:cNvPicPr/>
          <p:nvPr/>
        </p:nvPicPr>
        <p:blipFill>
          <a:blip r:embed="rId1"/>
          <a:stretch/>
        </p:blipFill>
        <p:spPr>
          <a:xfrm>
            <a:off x="1676520" y="2743200"/>
            <a:ext cx="52578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t2.gstatic.com/images?q=tbn:ANd9GcQgTIby05agkbKD3qXd7oRu-o0TiZIyGgUtoazgn9pu9eI2pPhH7w"/>
          <p:cNvPicPr/>
          <p:nvPr/>
        </p:nvPicPr>
        <p:blipFill>
          <a:blip r:embed="rId1"/>
          <a:stretch/>
        </p:blipFill>
        <p:spPr>
          <a:xfrm>
            <a:off x="3886200" y="3276720"/>
            <a:ext cx="2143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30:44Z</dcterms:modified>
  <cp:revision>93</cp:revision>
  <dc:subject/>
  <dc:title>Ancient Greece</dc:title>
</cp:coreProperties>
</file>